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F0F-568E-4F0B-98A6-33F50D31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F93-A5BC-4089-A256-12025299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7F6-C961-4854-B48A-091227AD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A0EF-D9D4-451D-8694-206587AB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3CD-B4FA-4743-B82B-C33351A1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FF4-1573-4410-9E05-0971C809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F32-DADA-4199-A999-6E7B752B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63A-3562-4AA4-A6FC-58BBC60A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934-FF9E-46A9-AD3C-6F888F54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747-4841-42BF-9C95-E6CB39D3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E17-4C8F-43B9-A11A-293BD055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057-6F6D-4474-9CB5-030F26BB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FE42-4029-46EC-B4DA-5FE2FC2A7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XXX XXXX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es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---</cp:lastModifiedBy>
  <dcterms:modified xsi:type="dcterms:W3CDTF">2008-12-17T10:52:14Z</dcterms:modified>
  <cp:revision>6</cp:revision>
  <dc:subject/>
  <dc:title>Diapositiva 1</dc:title>
</cp:coreProperties>
</file>